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1EB-9BA9-4448-AD19-A321E71B3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E7BB-B026-4263-9737-F2A30575C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E86-3E23-45E5-AD1E-108656AE7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B5B8-E44F-4400-9F55-E97053C63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2428-6B77-4B96-8658-E83C10C8A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767-2698-414F-A2EB-84161CA1C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7A3-D56C-4697-92D5-A54FFBCCC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841E-4856-400A-B80D-497550507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C32D-7D60-4001-82AA-DFB2525A2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D5E1-7844-4E98-AC1A-147E6A959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7778-9AD7-4736-81EE-A9479D190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E7B5-0CA6-4556-8C6A-7913F8D90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EED2-C0BB-4ADF-A1B9-6BC538D51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0141-9E6C-4AE1-A33B-C841F37D5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3770-B2BA-4F9D-B759-F44FE90A1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982-B286-4730-8EE7-A05F5BA27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112F-7489-4C48-BBA8-332CA554C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475-4753-472A-A7F9-85AA1297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9B9-FC95-4F6F-8CBF-E55657F34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6C17-64C5-49A6-8373-5B59C1C70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D3D6-4DEB-4796-A13B-3DB2EE4B0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7B3-0F1B-4562-9EA6-B60CF7859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6631-19CC-4148-AEE1-DDFB3CCA2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CADD-CD16-4E61-A34A-6BFF285C0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F59-A808-42FC-BF82-AAC5AFD3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54C-E3F4-4D0D-AE53-3B8BFDA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D8F-2E8F-4C3C-BDD6-024A4997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618-A80B-4B16-9DAE-7D742EBA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E40-9CB6-43B5-BFB9-672E79D6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75D-3586-4072-BDA5-1A124B77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CF7-1E00-45D2-A41E-800144E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5DA-D032-4F10-9CB7-E53E4226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1E8-D28C-4813-AF64-FC33347A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C22-FBF0-41B5-8AE1-6D4975BA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B11-145E-4362-83B5-DB7ABBD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ED7-41AC-4393-9FDF-52A1A74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E05-2FA9-47E0-AEFC-003DD2915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fricapoint.net/africa/the-african-elephant-8-interesting-facts/african-elephant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Is it livi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bluepyramid.org/ia/lion.jpg"/>
          <p:cNvPicPr/>
          <p:nvPr/>
        </p:nvPicPr>
        <p:blipFill>
          <a:blip r:embed="rId1"/>
          <a:stretch/>
        </p:blipFill>
        <p:spPr>
          <a:xfrm>
            <a:off x="2514600" y="1828800"/>
            <a:ext cx="4287960" cy="3368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95280" y="5867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indergarten kindergart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bestweekever.tv/bwe/images/2008/03/GOAT%20DOG%20BESTIES.jpg"/>
          <p:cNvPicPr/>
          <p:nvPr/>
        </p:nvPicPr>
        <p:blipFill>
          <a:blip r:embed="rId1"/>
          <a:stretch/>
        </p:blipFill>
        <p:spPr>
          <a:xfrm>
            <a:off x="1371600" y="685800"/>
            <a:ext cx="652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boltonmuseums.org.uk/images/geologyimages/mineral_specimen.jpg"/>
          <p:cNvPicPr/>
          <p:nvPr/>
        </p:nvPicPr>
        <p:blipFill>
          <a:blip r:embed="rId1"/>
          <a:stretch/>
        </p:blipFill>
        <p:spPr>
          <a:xfrm>
            <a:off x="1905120" y="914400"/>
            <a:ext cx="552456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blufiles.storage.live.com/y1p2qNOwIHhbuL8moLLPiVSBXpaLE0-kWCKL3wplhi_N11bg8bqeZ0NgZzR69o36ASp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chevroncarsblog.com/images/photos/yellow-car_l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rics.org/NR/rdonlyres/59C2C586-D41F-429F-9286-4BD6FF332133/0/tree.jpg"/>
          <p:cNvPicPr/>
          <p:nvPr/>
        </p:nvPicPr>
        <p:blipFill>
          <a:blip r:embed="rId1"/>
          <a:stretch/>
        </p:blipFill>
        <p:spPr>
          <a:xfrm>
            <a:off x="1523880" y="838080"/>
            <a:ext cx="5734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19320" y="228600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top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can you tell if something is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living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non-liv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ake a few minutes to discuss with your class some thing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ll living things have in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://www.gemplers.com/img/octagon-shaped-stop-165430.jpg"/>
          <p:cNvPicPr/>
          <p:nvPr/>
        </p:nvPicPr>
        <p:blipFill>
          <a:blip r:embed="rId1"/>
          <a:stretch/>
        </p:blipFill>
        <p:spPr>
          <a:xfrm>
            <a:off x="3733920" y="457200"/>
            <a:ext cx="1571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685800" y="914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4400" spc="-1" strike="noStrike">
                <a:solidFill>
                  <a:srgbClr val="0070c0"/>
                </a:solidFill>
                <a:latin typeface="Century Gothic"/>
              </a:rPr>
              <a:t>move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mojosfarm.com/images/horse-running-beach.jpg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62120" y="8380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4800" spc="-1" strike="noStrike">
                <a:solidFill>
                  <a:srgbClr val="c00000"/>
                </a:solidFill>
                <a:latin typeface="Century Gothic"/>
              </a:rPr>
              <a:t>grow and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delivery.superstock.com/WI/223/401/PreviewComp/SuperStock_401-1181.jpg"/>
          <p:cNvPicPr/>
          <p:nvPr/>
        </p:nvPicPr>
        <p:blipFill>
          <a:blip r:embed="rId1"/>
          <a:stretch/>
        </p:blipFill>
        <p:spPr>
          <a:xfrm>
            <a:off x="1295280" y="2690640"/>
            <a:ext cx="2800440" cy="212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cacklehatchery.com/Copy_of_white_leghorn_hen.jpg"/>
          <p:cNvPicPr/>
          <p:nvPr/>
        </p:nvPicPr>
        <p:blipFill>
          <a:blip r:embed="rId2"/>
          <a:stretch/>
        </p:blipFill>
        <p:spPr>
          <a:xfrm>
            <a:off x="4906800" y="2133720"/>
            <a:ext cx="2713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838080" y="6094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4800" spc="-1" strike="noStrike">
                <a:solidFill>
                  <a:srgbClr val="0070c0"/>
                </a:solidFill>
                <a:latin typeface="Century Gothic"/>
              </a:rPr>
              <a:t>breath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keyfinanceuk.com/resources/FishBubblesShrunk.jpg"/>
          <p:cNvPicPr/>
          <p:nvPr/>
        </p:nvPicPr>
        <p:blipFill>
          <a:blip r:embed="rId1"/>
          <a:stretch/>
        </p:blipFill>
        <p:spPr>
          <a:xfrm>
            <a:off x="1981080" y="1600200"/>
            <a:ext cx="46483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09480" y="3808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3600" spc="-1" strike="noStrike">
                <a:solidFill>
                  <a:srgbClr val="77933c"/>
                </a:solidFill>
                <a:latin typeface="Century Gothic"/>
              </a:rPr>
              <a:t>reproduce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(make more just like themselve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blog.pennlive.com/midstate_impact/2008/06/large_kittens.jpg"/>
          <p:cNvPicPr/>
          <p:nvPr/>
        </p:nvPicPr>
        <p:blipFill>
          <a:blip r:embed="rId1"/>
          <a:stretch/>
        </p:blipFill>
        <p:spPr>
          <a:xfrm>
            <a:off x="838080" y="2057400"/>
            <a:ext cx="353880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ama.ab.ca/images/images_content/Insurance_having_a_baby.jpg"/>
          <p:cNvPicPr/>
          <p:nvPr/>
        </p:nvPicPr>
        <p:blipFill>
          <a:blip r:embed="rId2"/>
          <a:stretch/>
        </p:blipFill>
        <p:spPr>
          <a:xfrm>
            <a:off x="4648320" y="2362320"/>
            <a:ext cx="3809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www.smpl.org/MainLibraryLandscaping/Landscaping%20Images/Century%20Plant%203.JPG"/>
          <p:cNvPicPr/>
          <p:nvPr/>
        </p:nvPicPr>
        <p:blipFill>
          <a:blip r:embed="rId1"/>
          <a:stretch/>
        </p:blipFill>
        <p:spPr>
          <a:xfrm>
            <a:off x="1600200" y="12002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685800" y="609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iving things need </a:t>
            </a:r>
            <a:r>
              <a:rPr b="0" lang="en-US" sz="3600" spc="-1" strike="noStrike">
                <a:solidFill>
                  <a:srgbClr val="00b0f0"/>
                </a:solidFill>
                <a:latin typeface="Century Gothic"/>
              </a:rPr>
              <a:t>food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0" lang="en-US" sz="3600" spc="-1" strike="noStrike">
                <a:solidFill>
                  <a:srgbClr val="00b0f0"/>
                </a:solidFill>
                <a:latin typeface="Century Gothic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to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free-slideshow.com/screens/rain_drops/rain-drop.jpg"/>
          <p:cNvPicPr/>
          <p:nvPr/>
        </p:nvPicPr>
        <p:blipFill>
          <a:blip r:embed="rId1"/>
          <a:stretch/>
        </p:blipFill>
        <p:spPr>
          <a:xfrm>
            <a:off x="4648320" y="2438280"/>
            <a:ext cx="3797280" cy="2847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buteisland.com/images/cow_eating.jpg"/>
          <p:cNvPicPr/>
          <p:nvPr/>
        </p:nvPicPr>
        <p:blipFill>
          <a:blip r:embed="rId2"/>
          <a:stretch/>
        </p:blipFill>
        <p:spPr>
          <a:xfrm>
            <a:off x="533520" y="2500200"/>
            <a:ext cx="39322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457200" y="6858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allenge ques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Is it living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?</a:t>
            </a: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Explain you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birdfeeders.us/sunflower-seeds-600.jpg"/>
          <p:cNvPicPr/>
          <p:nvPr/>
        </p:nvPicPr>
        <p:blipFill>
          <a:blip r:embed="rId1"/>
          <a:stretch/>
        </p:blipFill>
        <p:spPr>
          <a:xfrm>
            <a:off x="2133720" y="2819520"/>
            <a:ext cx="49528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62120" y="457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allenge ques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Is it living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Explain you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://www.foodsubs.com/Photos/egg.jpg"/>
          <p:cNvPicPr/>
          <p:nvPr/>
        </p:nvPicPr>
        <p:blipFill>
          <a:blip r:embed="rId1"/>
          <a:stretch/>
        </p:blipFill>
        <p:spPr>
          <a:xfrm>
            <a:off x="2514600" y="2209680"/>
            <a:ext cx="441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838080" y="6094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allenge ques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Is it living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Explain you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foodsubs.com/Photos/apple-braeburn.jpg"/>
          <p:cNvPicPr/>
          <p:nvPr/>
        </p:nvPicPr>
        <p:blipFill>
          <a:blip r:embed="rId1"/>
          <a:stretch/>
        </p:blipFill>
        <p:spPr>
          <a:xfrm>
            <a:off x="2057400" y="2286000"/>
            <a:ext cx="44956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montgomerycountymd.gov/content/dep/herps/photos/snakes/Eastern_Worm_Snake_Carphophis_amoenus_amoenus_002.jpg"/>
          <p:cNvPicPr/>
          <p:nvPr/>
        </p:nvPicPr>
        <p:blipFill>
          <a:blip r:embed="rId1"/>
          <a:stretch/>
        </p:blipFill>
        <p:spPr>
          <a:xfrm>
            <a:off x="762120" y="609480"/>
            <a:ext cx="7610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most-expensive.net/wp-content/uploads/2007/04/teddy-bear.jpg"/>
          <p:cNvPicPr/>
          <p:nvPr/>
        </p:nvPicPr>
        <p:blipFill>
          <a:blip r:embed="rId1"/>
          <a:stretch/>
        </p:blipFill>
        <p:spPr>
          <a:xfrm>
            <a:off x="1752480" y="6858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hydroponicsdictionary.com/images/insects/full_ladybug.jpg"/>
          <p:cNvPicPr/>
          <p:nvPr/>
        </p:nvPicPr>
        <p:blipFill>
          <a:blip r:embed="rId1"/>
          <a:stretch/>
        </p:blipFill>
        <p:spPr>
          <a:xfrm>
            <a:off x="1828800" y="1295280"/>
            <a:ext cx="54388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ilovedrseuss.com/images/crayons.jpg"/>
          <p:cNvPicPr/>
          <p:nvPr/>
        </p:nvPicPr>
        <p:blipFill>
          <a:blip r:embed="rId1"/>
          <a:stretch/>
        </p:blipFill>
        <p:spPr>
          <a:xfrm>
            <a:off x="2057400" y="457200"/>
            <a:ext cx="5715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frican-eleph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391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hewoodenwagon.com/Merchant2/graphics/00000001/tausendschoen-doll-l.jpg"/>
          <p:cNvPicPr/>
          <p:nvPr/>
        </p:nvPicPr>
        <p:blipFill>
          <a:blip r:embed="rId1"/>
          <a:stretch/>
        </p:blipFill>
        <p:spPr>
          <a:xfrm>
            <a:off x="1828800" y="609480"/>
            <a:ext cx="58482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ages.birthdayinabox.com/BIABviewLarger/Train.jpg"/>
          <p:cNvPicPr/>
          <p:nvPr/>
        </p:nvPicPr>
        <p:blipFill>
          <a:blip r:embed="rId1"/>
          <a:stretch/>
        </p:blipFill>
        <p:spPr>
          <a:xfrm>
            <a:off x="1905120" y="76212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08:37Z</dcterms:created>
  <dc:creator>Administrator</dc:creator>
  <dc:description/>
  <dc:language>en-US</dc:language>
  <cp:lastModifiedBy>afloyd</cp:lastModifiedBy>
  <dcterms:modified xsi:type="dcterms:W3CDTF">2013-03-06T16:18:30Z</dcterms:modified>
  <cp:revision>25</cp:revision>
  <dc:subject/>
  <dc:title>Slide 1</dc:title>
</cp:coreProperties>
</file>